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1EB-5198-45BE-B59F-A01876FD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18B-D2A0-4E96-BC6D-6F9053BE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9E8-A3B4-4AB0-BE01-34478A3A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A2F-1203-481F-A5FF-D8D31AE7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DB4-4674-4ED6-8273-71A11A8F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6F4E-31CB-4C65-8B07-28046CCB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190-1BF8-4FA1-8BF3-8CB7A9C7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58F-6BDF-4B65-BA7A-FD4E8F26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A48-6942-4561-B8F5-B207BC31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3F4-771D-4CA6-A218-BB254FCA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5BA-936D-442D-880A-44ECA79C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AE3-2BD8-4231-B9FB-865C25B2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F1AD-6060-4826-8F25-3D309E9B2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shae W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1752480"/>
            <a:ext cx="4415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bout Me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 advTm="5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rite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t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e Bo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Most Hated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b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o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You Know All My Business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’m Good A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ing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good Sportsmansh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people La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rite Websites Includ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rite Foods Are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hpatatoes and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ts and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nge chicken and noo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rite Teachers A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J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We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Jack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2362320"/>
            <a:ext cx="304920" cy="228600"/>
          </a:xfrm>
          <a:custGeom>
            <a:avLst/>
            <a:gdLst>
              <a:gd name="textAreaLeft" fmla="*/ 71640 w 304920"/>
              <a:gd name="textAreaRight" fmla="*/ 233280 w 30492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I Could I Woul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forward time and graduate from col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myself a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y that pretty dress from Pet Co. for Lala (my d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10 Years I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have a good paying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e 1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w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Favorite Artist/Athletes Ar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y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l W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l Boos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ces I Have To Lea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ug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g Dad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ky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1:28Z</dcterms:created>
  <dc:creator>004student</dc:creator>
  <dc:description/>
  <dc:language>en-US</dc:language>
  <cp:lastModifiedBy>004student</cp:lastModifiedBy>
  <dcterms:modified xsi:type="dcterms:W3CDTF">2008-10-22T16:01:44Z</dcterms:modified>
  <cp:revision>5</cp:revision>
  <dc:subject/>
  <dc:title>Slide 1</dc:title>
</cp:coreProperties>
</file>